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8DB-CA0A-49F5-AEBE-3C75C169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809-A774-4307-9D7A-5C16D1A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9EC-A2C7-484D-AD7B-645D3AC6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B48-5802-4E3F-B1B2-FA15C555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5D5-88A1-4232-8EB7-9496EC8C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49B-18B0-456A-B66F-7302B219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FC6-061A-48FB-8C03-F4B7A5BB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58A-4F0F-4354-9E73-5837679A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1C3-AF57-49B2-934C-4F6F93D7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93F-1DB2-4DAC-A1F1-E355072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5A0-4131-498E-963E-5F77095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387-F6DC-4F89-95D2-FBD9EC2A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748A-AF50-4ABC-B5EE-5B7F5B31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effectiveness of data security meas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, reliability and timeliness in terms of storage, communication and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, eg. storage, it contains all data; communication, arrives accurately, no viruses; disposal, selected files deleted or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physical &amp; software security, eg. audit t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effectiveness of data security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nce of folder &amp; file-naming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ed up files need to be able to be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cy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equential file-naming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effectiveness of data security management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7588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a risk manage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can get access to physical environment &amp;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virus software, is it being upd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s, changed &amp; che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s require policies to define how an information system should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s: subject heading &amp; message priority; signature of person sending it; privacy disclaimer at end of email; use of appropriate language; attachments sent in appropriat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le-naming con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lude datestamp, eg. newsletter 2006-11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ariation, newsletter 2006-11 v3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quential file-naming convention, newsletter 2006-11 03oct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me, meaning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of a 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backup, 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backup, files that have changed since last full backup, uses only 2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backup, files changed since the last incremental ba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ation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name o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parent-parent-chil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backup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backup at end of each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backup end of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ack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proof &amp; waterproof 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location, eg. anothe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site backup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ing/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on same type of media as 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 simila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required for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cument with steps needed to restore company operations in event of a dis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key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&amp; contact details of people to no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to follow with computer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on procedures for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ck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alternative sites &amp;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backup data, supplies, eq/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nel responsible for gathering backup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chedule indicating order &amp; approximate time applications up and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 hardware &amp; software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mission critical IC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 backup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of variety of disasters &amp; recover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26:59Z</dcterms:created>
  <dc:creator>Kelvin Baird</dc:creator>
  <dc:description/>
  <dc:language>en-US</dc:language>
  <cp:lastModifiedBy>Kelvin Baird</cp:lastModifiedBy>
  <dcterms:modified xsi:type="dcterms:W3CDTF">2007-07-11T04:37:47Z</dcterms:modified>
  <cp:revision>4</cp:revision>
  <dc:subject/>
  <dc:title>Security, Security Procedures</dc:title>
</cp:coreProperties>
</file>